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9.wmf" ContentType="image/x-wmf"/>
  <Override PartName="/ppt/media/image14.png" ContentType="image/png"/>
  <Override PartName="/ppt/media/image27.png" ContentType="image/png"/>
  <Override PartName="/ppt/media/image12.wmf" ContentType="image/x-wmf"/>
  <Override PartName="/ppt/media/image1.jpeg" ContentType="image/jpeg"/>
  <Override PartName="/ppt/media/image7.png" ContentType="image/png"/>
  <Override PartName="/ppt/media/image25.png" ContentType="image/png"/>
  <Override PartName="/ppt/media/image4.jpeg" ContentType="image/jpeg"/>
  <Override PartName="/ppt/media/image10.wmf" ContentType="image/x-wmf"/>
  <Override PartName="/ppt/media/image28.png" ContentType="image/png"/>
  <Override PartName="/ppt/media/image8.jpeg" ContentType="image/jpeg"/>
  <Override PartName="/ppt/media/image13.wmf" ContentType="image/x-wmf"/>
  <Override PartName="/ppt/media/image26.png" ContentType="image/png"/>
  <Override PartName="/ppt/media/image31.png" ContentType="image/png"/>
  <Override PartName="/ppt/media/image11.wmf" ContentType="image/x-wmf"/>
  <Override PartName="/ppt/media/image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8B29-FE68-4CDA-A567-7A6402CE6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4F53-AF31-4B96-8C33-723EA6009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8D5-FD43-4A80-A53C-E562F791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755F-4BAB-4D11-B403-B98CEB6B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9740-8902-40A6-871B-E9ECD13F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4A6-A38F-4B85-B96A-CE9CD4CF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7D4D-D787-4B08-A4D7-0CFCC46F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417-87C4-4BF7-A07F-B02CE4C4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ABD-6E52-47AE-8E3D-1EB25986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37DC-7C4A-403D-A3E7-A462B6BA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BE3-C3CE-4504-921B-B09B5282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7B0E-24A5-460E-83E8-9F94DDAF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697-FA83-4914-9EDD-4FEB4A29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2ACD-59EA-4392-AE6A-3758CAC5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1919-D528-4992-BAB5-D47E33BC2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../PowerPoint%20PP/thoughts.ppt" TargetMode="External"/><Relationship Id="rId2" Type="http://schemas.openxmlformats.org/officeDocument/2006/relationships/hyperlink" Target="file:///../PowerPoint%20PP/periodic_table.ppt" TargetMode="External"/><Relationship Id="rId3" Type="http://schemas.openxmlformats.org/officeDocument/2006/relationships/hyperlink" Target="file:///../PowerPoint%20PP/spelling.ppt" TargetMode="External"/><Relationship Id="rId4" Type="http://schemas.openxmlformats.org/officeDocument/2006/relationships/hyperlink" Target="file:///../PowerPoint%20PP/bird_fieldtrip.ppt" TargetMode="External"/><Relationship Id="rId5" Type="http://schemas.openxmlformats.org/officeDocument/2006/relationships/hyperlink" Target="file:///../PowerPoint%20PP/addition.ppt" TargetMode="External"/><Relationship Id="rId6" Type="http://schemas.openxmlformats.org/officeDocument/2006/relationships/hyperlink" Target="http://www.saskschools.ca/~qvss/grassroots01/isppt/ppframe.htm" TargetMode="External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../PowerPoint%20PP/24/24.ppt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bibme.org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citationmachine.net/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internet4classrooms.com/on-line_powerpoint.htm" TargetMode="External"/><Relationship Id="rId2" Type="http://schemas.openxmlformats.org/officeDocument/2006/relationships/hyperlink" Target="http://www.rapides.k12.la.us/VI/PowerPointresources.htm" TargetMode="External"/><Relationship Id="rId3" Type="http://schemas.openxmlformats.org/officeDocument/2006/relationships/hyperlink" Target="http://oswego.org/ocsd-web/teaching/resources/resources-x.cfm?Type=P" TargetMode="External"/><Relationship Id="rId4" Type="http://schemas.openxmlformats.org/officeDocument/2006/relationships/hyperlink" Target="http://www.midgefrazel.net/powerpoint.html" TargetMode="External"/><Relationship Id="rId5" Type="http://schemas.openxmlformats.org/officeDocument/2006/relationships/hyperlink" Target="http://jc-schools.net/ppt.html" TargetMode="External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uwstout.edu/soe/profdev/pptrubric.html" TargetMode="External"/><Relationship Id="rId2" Type="http://schemas.openxmlformats.org/officeDocument/2006/relationships/hyperlink" Target="http://dms.wcs.k12.va.us/pprubric.htm" TargetMode="External"/><Relationship Id="rId3" Type="http://schemas.openxmlformats.org/officeDocument/2006/relationships/hyperlink" Target="http://www.techtrekers.com/rubrics.html" TargetMode="External"/><Relationship Id="rId4" Type="http://schemas.openxmlformats.org/officeDocument/2006/relationships/slide" Target="slide40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facstaff.uww.edu/jonesd/games/" TargetMode="External"/><Relationship Id="rId2" Type="http://schemas.openxmlformats.org/officeDocument/2006/relationships/hyperlink" Target="http://jc-schools.net/tutorials/ppt-games/" TargetMode="External"/><Relationship Id="rId3" Type="http://schemas.openxmlformats.org/officeDocument/2006/relationships/hyperlink" Target="http://people.uncw.edu/ertzbergerj/ppt_games.html" TargetMode="External"/><Relationship Id="rId4" Type="http://schemas.openxmlformats.org/officeDocument/2006/relationships/hyperlink" Target="http://people.uncw.edu/ertzbergerj/ppt_timers.html" TargetMode="External"/><Relationship Id="rId5" Type="http://schemas.openxmlformats.org/officeDocument/2006/relationships/hyperlink" Target="http://www.pointmangames.com/singlegames/generalA.htm" TargetMode="External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actden.com/pp/guide.htm" TargetMode="External"/><Relationship Id="rId2" Type="http://schemas.openxmlformats.org/officeDocument/2006/relationships/image" Target="../media/image18.png"/><Relationship Id="rId3" Type="http://schemas.openxmlformats.org/officeDocument/2006/relationships/hyperlink" Target="http://oregonstate.edu/instruction/ed596/ppoint/pphome.htm" TargetMode="External"/><Relationship Id="rId4" Type="http://schemas.openxmlformats.org/officeDocument/2006/relationships/hyperlink" Target="http://www.youtube.com/watch?v=XGMmevekJwQ" TargetMode="External"/><Relationship Id="rId5" Type="http://schemas.openxmlformats.org/officeDocument/2006/relationships/image" Target="../media/image19.png"/><Relationship Id="rId6" Type="http://schemas.openxmlformats.org/officeDocument/2006/relationships/hyperlink" Target="http://office.microsoft.com/en-us/training/CR100654571033.aspx" TargetMode="External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brainybetty.com/default.htm" TargetMode="External"/><Relationship Id="rId2" Type="http://schemas.openxmlformats.org/officeDocument/2006/relationships/image" Target="../media/image21.png"/><Relationship Id="rId3" Type="http://schemas.openxmlformats.org/officeDocument/2006/relationships/hyperlink" Target="http://www.soniacoleman.com/templates.htm" TargetMode="External"/><Relationship Id="rId4" Type="http://schemas.openxmlformats.org/officeDocument/2006/relationships/image" Target="../media/image22.png"/><Relationship Id="rId5" Type="http://schemas.openxmlformats.org/officeDocument/2006/relationships/hyperlink" Target="http://websiteestates.com/free_education_powerpoint_templates.php" TargetMode="External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hancing Classroom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371600" y="609480"/>
            <a:ext cx="533520" cy="6098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304920" y="160020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1447920" y="2362320"/>
            <a:ext cx="685800" cy="761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152280" y="403848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1828800" y="4800600"/>
            <a:ext cx="685800" cy="762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9"/>
          <p:cNvSpPr/>
          <p:nvPr/>
        </p:nvSpPr>
        <p:spPr>
          <a:xfrm>
            <a:off x="5181480" y="5867280"/>
            <a:ext cx="533520" cy="6098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3581280" y="5638680"/>
            <a:ext cx="83844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228600" y="2743200"/>
            <a:ext cx="1219320" cy="12193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533520" y="5105520"/>
            <a:ext cx="1218960" cy="1218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2286000" y="5486400"/>
            <a:ext cx="1219320" cy="12193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2438280" y="3809880"/>
            <a:ext cx="4191120" cy="17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ynn Zottni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al Technolog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keview Acade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914400" y="649296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Certain materials are included under the fair use exemption of the U. S. Copyright Law and have been </a:t>
            </a:r>
            <a:br>
              <a:rPr sz="900"/>
            </a:b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repared according to the fair use multimedia guidelinesand are restricted from further use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PowerPoi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980720" y="16761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information or i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s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tutorials, reviews, or quizz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studen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Le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room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2133720" y="1371600"/>
            <a:ext cx="5257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447560" y="2133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font that is easy to re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2514600" y="12952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676520" y="13716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Good Presentation: Fo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2514600" y="2666880"/>
            <a:ext cx="914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dineKirnberg-Script"/>
              </a:rPr>
              <a:t>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733920" y="28195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llo"/>
              </a:rPr>
              <a:t>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480060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nformal011 BT"/>
              </a:rPr>
              <a:t>All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1523880" y="35053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ck with one or two types of fo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1600200" y="457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font size of at least 22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6629400" y="27432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igh Contr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2057400" y="5334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’s just too sma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2133720" y="53341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724280" y="5516640"/>
            <a:ext cx="152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2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6477120" y="55926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47560" y="22856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ame backgro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2514600" y="12952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1295280" y="1371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Good Presentation: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2514600" y="311004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your own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6"/>
          <p:cNvSpPr/>
          <p:nvPr/>
        </p:nvSpPr>
        <p:spPr>
          <a:xfrm>
            <a:off x="1523880" y="457200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colors carefu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2057400" y="5334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’s just too sma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2743200" y="12952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295280" y="1371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ckgrounds: Choose Colors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1905120" y="2057400"/>
            <a:ext cx="6172200" cy="2197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e high-contrast co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is is hard to rea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1905120" y="4419720"/>
            <a:ext cx="6095880" cy="2073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Red and black are generally poor color combin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Red text is especially hard to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2819520" y="12952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1295280" y="1371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ckgrounds: Choose Colors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1905120" y="2057400"/>
            <a:ext cx="6172200" cy="219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high-contrast co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te/light text looks sharp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1905120" y="4419720"/>
            <a:ext cx="6095880" cy="1892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33"/>
                </a:solidFill>
                <a:latin typeface="Arial"/>
              </a:rPr>
              <a:t>Especially good for</a:t>
            </a:r>
            <a:br>
              <a:rPr sz="3600"/>
            </a:br>
            <a:r>
              <a:rPr b="0" lang="en-US" sz="3600" spc="-1" strike="noStrike">
                <a:solidFill>
                  <a:srgbClr val="ffff33"/>
                </a:solidFill>
                <a:latin typeface="Arial"/>
              </a:rPr>
              <a:t>  “low light” 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5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2819520" y="12952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1295280" y="1371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ckgrounds: Choose Colors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1905120" y="2057400"/>
            <a:ext cx="6172200" cy="21970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61cb"/>
                </a:solidFill>
                <a:latin typeface="Arial"/>
              </a:rPr>
              <a:t>Use high-contrast co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61cb"/>
                </a:solidFill>
                <a:latin typeface="Arial"/>
              </a:rPr>
              <a:t>This is hard to rea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1905120" y="4419720"/>
            <a:ext cx="6095880" cy="20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Be careful with textures and special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This is hard to read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447920" y="22093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areful not to put too much text on one slide.  It’s so annoying to see a presentation with tons and tons and tons of text. It’s like, you know, you are supposed to focus on the presenter, you know, and if there’s so much text I just get bored and my mind wanders.  You know what I mean?  Do you really want to read all this stuff?  I would just skip over it and move on to the next slide.” </a:t>
            </a:r>
            <a:br>
              <a:rPr sz="2800"/>
            </a:br>
            <a:br>
              <a:rPr sz="1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quote is by Martha Lipold, the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 Science Teacher at Lakeview Acade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2514600" y="12952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1295280" y="1371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Good Presentation: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2057400" y="5334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’s just too sma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828800" y="243792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n phrases rather than para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6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2514600" y="12952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295280" y="1371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           Presentation: Bul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2057400" y="5334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’s just too sma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1828800" y="335268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6x6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5"/>
          <p:cNvSpPr/>
          <p:nvPr/>
        </p:nvSpPr>
        <p:spPr>
          <a:xfrm>
            <a:off x="2286000" y="4191120"/>
            <a:ext cx="5181480" cy="82548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than 6 bul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than 6 words per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3659760" y="137160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752120" y="22856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graphics and sound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6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9"/>
          <p:cNvSpPr/>
          <p:nvPr/>
        </p:nvSpPr>
        <p:spPr>
          <a:xfrm>
            <a:off x="2514600" y="12952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1295280" y="1371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Good Presentation: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3429000" y="4419720"/>
            <a:ext cx="5181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ot BE the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1828800" y="3352680"/>
            <a:ext cx="6629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 should contribute to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pre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2" descr="so01213_"/>
          <p:cNvPicPr/>
          <p:nvPr/>
        </p:nvPicPr>
        <p:blipFill>
          <a:blip r:embed="rId1"/>
          <a:stretch/>
        </p:blipFill>
        <p:spPr>
          <a:xfrm>
            <a:off x="5334120" y="4114800"/>
            <a:ext cx="1190520" cy="21207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3" descr="so01212_"/>
          <p:cNvPicPr/>
          <p:nvPr/>
        </p:nvPicPr>
        <p:blipFill>
          <a:blip r:embed="rId2"/>
          <a:stretch/>
        </p:blipFill>
        <p:spPr>
          <a:xfrm>
            <a:off x="3505320" y="4114800"/>
            <a:ext cx="1326960" cy="2286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5" descr="j0084350"/>
          <p:cNvPicPr/>
          <p:nvPr/>
        </p:nvPicPr>
        <p:blipFill>
          <a:blip r:embed="rId3"/>
          <a:stretch/>
        </p:blipFill>
        <p:spPr>
          <a:xfrm>
            <a:off x="1676520" y="4800600"/>
            <a:ext cx="1498320" cy="1584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6" descr="j0084348"/>
          <p:cNvPicPr/>
          <p:nvPr/>
        </p:nvPicPr>
        <p:blipFill>
          <a:blip r:embed="rId4"/>
          <a:stretch/>
        </p:blipFill>
        <p:spPr>
          <a:xfrm>
            <a:off x="6934320" y="4876920"/>
            <a:ext cx="1488960" cy="1571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7" descr="j0084346"/>
          <p:cNvPicPr/>
          <p:nvPr/>
        </p:nvPicPr>
        <p:blipFill>
          <a:blip r:embed="rId5"/>
          <a:stretch/>
        </p:blipFill>
        <p:spPr>
          <a:xfrm>
            <a:off x="1371600" y="457200"/>
            <a:ext cx="1542960" cy="15778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8" descr=""/>
          <p:cNvPicPr/>
          <p:nvPr/>
        </p:nvPicPr>
        <p:blipFill>
          <a:blip r:embed="rId6"/>
          <a:stretch/>
        </p:blipFill>
        <p:spPr>
          <a:xfrm>
            <a:off x="8610480" y="6400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63 0.0926 C 0.08351 0.09352 0.09098 0.09306 0.10573 0.09676 C 0.11407 0.10417 0.1099 0.10232 0.11737 0.10463 C 0.12344 0.10949 0.12761 0.11389 0.1323 0.11991 C 0.13334 0.1213 0.13525 0.12408 0.13525 0.12408 C 0.13716 0.12824 0.13907 0.12986 0.14289 0.13287 C 0.14549 0.14005 0.15122 0.14607 0.15608 0.15209 C 0.16007 0.16621 0.16528 0.1801 0.16928 0.19398 C 0.17188 0.20209 0.17292 0.20996 0.17987 0.21574 C 0.18351 0.22616 0.17796 0.21389 0.18577 0.22246 C 0.18698 0.22338 0.18629 0.22523 0.18733 0.22639 C 0.18941 0.22871 0.1948 0.23264 0.1948 0.23287 C 0.1974 0.23959 0.20608 0.2463 0.21094 0.25232 C 0.2132 0.25486 0.22744 0.27153 0.22865 0.27431 C 0.23178 0.28218 0.23698 0.28635 0.24514 0.28959 C 0.25122 0.29537 0.25955 0.29537 0.26737 0.2963 C 0.28369 0.30185 0.27501 0.29931 0.31216 0.2963 C 0.31511 0.29607 0.32084 0.29375 0.32084 0.29398 C 0.33108 0.28773 0.32639 0.28959 0.33438 0.28704 C 0.34011 0.2838 0.34271 0.27986 0.34757 0.27547 C 0.35226 0.2713 0.35799 0.26829 0.36233 0.26389 C 0.37014 0.25556 0.37587 0.24584 0.3816 0.23658 C 0.3849 0.23172 0.38994 0.22824 0.39358 0.22385 C 0.39983 0.21667 0.40556 0.20996 0.41146 0.20278 C 0.41511 0.19283 0.40955 0.20486 0.41737 0.19653 C 0.42553 0.1875 0.41025 0.19723 0.42344 0.18982 C 0.42622 0.18195 0.43438 0.17709 0.43837 0.16898 C 0.44046 0.16459 0.44167 0.15949 0.44393 0.1551 C 0.44584 0.15139 0.44723 0.14792 0.44983 0.14468 C 0.45087 0.14352 0.45226 0.1419 0.45278 0.14051 C 0.4573 0.1331 0.45851 0.12431 0.4606 0.11621 C 0.46094 0.10093 0.45261 0.05602 0.46928 0.03426 C 0.47188 0.02755 0.47362 0.01968 0.4783 0.01366 C 0.47865 0.01204 0.47865 0.00996 0.47969 0.00857 C 0.48021 0.00741 0.4823 0.00718 0.48282 0.00602 C 0.48369 0.00394 0.48316 0.00139 0.48421 -0.00046 C 0.48525 -0.00301 0.4882 -0.00463 0.49011 -0.00717 C 0.49237 -0.01342 0.5099 -0.02801 0.51685 -0.03287 C 0.52049 -0.03565 0.52153 -0.04097 0.52726 -0.04097 C 0.55695 -0.0412 0.58681 -0.04097 0.61632 -0.04097 L 0.62396 -0.04838 E">
                                      <p:cBhvr>
                                        <p:cTn id="309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2743200" y="12952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990720" y="1371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Gre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2057400" y="5334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’s just too sma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7"/>
          <p:cNvSpPr/>
          <p:nvPr/>
        </p:nvSpPr>
        <p:spPr>
          <a:xfrm>
            <a:off x="1600200" y="30481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utside the box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1337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s: A Brief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Use PowerPoi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Point in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1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2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4"/>
          <p:cNvSpPr/>
          <p:nvPr/>
        </p:nvSpPr>
        <p:spPr>
          <a:xfrm>
            <a:off x="3733920" y="1295280"/>
            <a:ext cx="1676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5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6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676520" y="2437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bull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6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2819520" y="12952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1143000" y="1371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Grea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057400" y="5334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’s just too sma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6"/>
          <p:cNvSpPr/>
          <p:nvPr/>
        </p:nvSpPr>
        <p:spPr>
          <a:xfrm>
            <a:off x="1523880" y="34290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word or phrase per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7"/>
          <p:cNvSpPr/>
          <p:nvPr/>
        </p:nvSpPr>
        <p:spPr>
          <a:xfrm>
            <a:off x="1752480" y="44197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lides are che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6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2819520" y="12952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2"/>
          <p:cNvSpPr/>
          <p:nvPr/>
        </p:nvSpPr>
        <p:spPr>
          <a:xfrm>
            <a:off x="1143000" y="1371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Grea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2057400" y="5334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’s just too sma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1752480" y="37339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676520" y="27432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it clip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1752480" y="4648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orporate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Point In th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"/>
          <p:cNvSpPr/>
          <p:nvPr/>
        </p:nvSpPr>
        <p:spPr>
          <a:xfrm>
            <a:off x="1981080" y="1295280"/>
            <a:ext cx="6400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2514600" y="1371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gration Ideas for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1905120" y="2666880"/>
            <a:ext cx="6705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-to/Step-by-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Portfolio -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– Action Buttons/Hyper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Point In th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1981080" y="1295280"/>
            <a:ext cx="6400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2514600" y="1371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gration Ideas for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2286000" y="2514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ou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2286000" y="3276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2286000" y="4038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pe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2286000" y="4724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Fiel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2286000" y="541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2286000" y="6019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bou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Point In th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8"/>
          <p:cNvSpPr/>
          <p:nvPr/>
        </p:nvSpPr>
        <p:spPr>
          <a:xfrm>
            <a:off x="1981080" y="1295280"/>
            <a:ext cx="6400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2590920" y="1371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gration Ideas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2209680" y="2301840"/>
            <a:ext cx="4572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ud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Oregon Trail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The Decades Proje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State Trivi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Native Ameri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5"/>
          <p:cNvSpPr/>
          <p:nvPr/>
        </p:nvSpPr>
        <p:spPr>
          <a:xfrm>
            <a:off x="2286000" y="4511520"/>
            <a:ext cx="4572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Biom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Weathe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Kingdoms and Phyl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Point In th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1981080" y="1295280"/>
            <a:ext cx="6400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2590920" y="1371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gration Ideas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2286000" y="2438280"/>
            <a:ext cx="4572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nr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Digital Book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News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2362320" y="4527720"/>
            <a:ext cx="4572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Display student work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Point In th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1981080" y="1295280"/>
            <a:ext cx="6400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2590920" y="1371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ducational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228600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g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286000" y="3657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ington 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5"/>
          <p:cNvSpPr/>
          <p:nvPr/>
        </p:nvSpPr>
        <p:spPr>
          <a:xfrm>
            <a:off x="2286000" y="4343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den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2286000" y="4952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lywood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7"/>
          <p:cNvSpPr/>
          <p:nvPr/>
        </p:nvSpPr>
        <p:spPr>
          <a:xfrm>
            <a:off x="2286000" y="5638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opar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8"/>
          <p:cNvSpPr/>
          <p:nvPr/>
        </p:nvSpPr>
        <p:spPr>
          <a:xfrm>
            <a:off x="2286000" y="2286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You Smarter Than a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Point In th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"/>
          <p:cNvSpPr/>
          <p:nvPr/>
        </p:nvSpPr>
        <p:spPr>
          <a:xfrm>
            <a:off x="1981080" y="1295280"/>
            <a:ext cx="6400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2133720" y="1447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2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3"/>
          <p:cNvSpPr/>
          <p:nvPr/>
        </p:nvSpPr>
        <p:spPr>
          <a:xfrm>
            <a:off x="3352680" y="2590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onal T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3352680" y="3505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5"/>
          <p:cNvSpPr/>
          <p:nvPr/>
        </p:nvSpPr>
        <p:spPr>
          <a:xfrm>
            <a:off x="3352680" y="4419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 G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19" descr="">
            <a:hlinkClick r:id="rId1"/>
          </p:cNvPr>
          <p:cNvPicPr/>
          <p:nvPr/>
        </p:nvPicPr>
        <p:blipFill>
          <a:blip r:embed="rId2"/>
          <a:srcRect l="18753" t="40044" r="60159" b="38475"/>
          <a:stretch/>
        </p:blipFill>
        <p:spPr>
          <a:xfrm>
            <a:off x="3657600" y="5257800"/>
            <a:ext cx="129528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Point In th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8"/>
          <p:cNvSpPr/>
          <p:nvPr/>
        </p:nvSpPr>
        <p:spPr>
          <a:xfrm>
            <a:off x="1981080" y="1295280"/>
            <a:ext cx="6400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1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286000" y="1447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pyright Law: Educational Fai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52480" y="2286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copy can be made of any of the following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2057400" y="2895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 chapter from a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2057400" y="3581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n article from a periodical or news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2057400" y="42670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 short story, short essay, or short poem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whether or not it is from a collectiv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057400" y="52578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 picture, graph, chart, diagram, or cartoon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from a book, periodical or news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Point In th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8"/>
          <p:cNvSpPr/>
          <p:nvPr/>
        </p:nvSpPr>
        <p:spPr>
          <a:xfrm>
            <a:off x="1981080" y="1295280"/>
            <a:ext cx="6400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1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8"/>
          <p:cNvSpPr/>
          <p:nvPr/>
        </p:nvSpPr>
        <p:spPr>
          <a:xfrm>
            <a:off x="2286000" y="1371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line Citation Gen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9" descr="">
            <a:hlinkClick r:id="rId1"/>
          </p:cNvPr>
          <p:cNvPicPr/>
          <p:nvPr/>
        </p:nvPicPr>
        <p:blipFill>
          <a:blip r:embed="rId2"/>
          <a:srcRect l="8971" t="20052" r="36339" b="53910"/>
          <a:stretch/>
        </p:blipFill>
        <p:spPr>
          <a:xfrm>
            <a:off x="3048120" y="2438280"/>
            <a:ext cx="3962160" cy="14162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0" descr="">
            <a:hlinkClick r:id="rId3"/>
          </p:cNvPr>
          <p:cNvPicPr/>
          <p:nvPr/>
        </p:nvPicPr>
        <p:blipFill>
          <a:blip r:embed="rId4"/>
          <a:srcRect l="978" t="20052" r="75405" b="60949"/>
          <a:stretch/>
        </p:blipFill>
        <p:spPr>
          <a:xfrm>
            <a:off x="3505320" y="4114800"/>
            <a:ext cx="3035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2895480" y="1295280"/>
            <a:ext cx="33530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3124080" y="2438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ve Pain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3048120" y="1371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beginn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3200400" y="4114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ogly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3352680" y="1295280"/>
            <a:ext cx="26672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1"/>
          <p:cNvSpPr/>
          <p:nvPr/>
        </p:nvSpPr>
        <p:spPr>
          <a:xfrm>
            <a:off x="2666880" y="1371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gration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6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8"/>
          <p:cNvSpPr/>
          <p:nvPr/>
        </p:nvSpPr>
        <p:spPr>
          <a:xfrm>
            <a:off x="2057400" y="3048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ternet4Classroo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hock full of go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3"/>
          <p:cNvSpPr/>
          <p:nvPr/>
        </p:nvSpPr>
        <p:spPr>
          <a:xfrm>
            <a:off x="2057400" y="4648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5"/>
          <p:cNvSpPr/>
          <p:nvPr/>
        </p:nvSpPr>
        <p:spPr>
          <a:xfrm>
            <a:off x="2057400" y="3809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iculu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7"/>
          <p:cNvSpPr/>
          <p:nvPr/>
        </p:nvSpPr>
        <p:spPr>
          <a:xfrm>
            <a:off x="2057400" y="533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ower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9"/>
          <p:cNvSpPr/>
          <p:nvPr/>
        </p:nvSpPr>
        <p:spPr>
          <a:xfrm>
            <a:off x="2057400" y="23623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werPoin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8"/>
          <p:cNvSpPr/>
          <p:nvPr/>
        </p:nvSpPr>
        <p:spPr>
          <a:xfrm>
            <a:off x="3352680" y="1295280"/>
            <a:ext cx="26672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1"/>
          <p:cNvSpPr/>
          <p:nvPr/>
        </p:nvSpPr>
        <p:spPr>
          <a:xfrm>
            <a:off x="2666880" y="1371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ub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2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2209680" y="2590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+ PowerPoin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u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2209680" y="3505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ub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Basic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9"/>
          <p:cNvSpPr/>
          <p:nvPr/>
        </p:nvSpPr>
        <p:spPr>
          <a:xfrm>
            <a:off x="2209680" y="44956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Treker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ub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i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1"/>
          <p:cNvSpPr/>
          <p:nvPr/>
        </p:nvSpPr>
        <p:spPr>
          <a:xfrm>
            <a:off x="2209680" y="54100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 Technology Fai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Ru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8"/>
          <p:cNvSpPr/>
          <p:nvPr/>
        </p:nvSpPr>
        <p:spPr>
          <a:xfrm>
            <a:off x="3352680" y="1295280"/>
            <a:ext cx="26672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2666880" y="1371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2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3"/>
          <p:cNvSpPr/>
          <p:nvPr/>
        </p:nvSpPr>
        <p:spPr>
          <a:xfrm>
            <a:off x="2209680" y="2286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e of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a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5"/>
          <p:cNvSpPr/>
          <p:nvPr/>
        </p:nvSpPr>
        <p:spPr>
          <a:xfrm>
            <a:off x="2212200" y="3886200"/>
            <a:ext cx="29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2209680" y="3048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ing Tech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2209680" y="5486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i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4"/>
          <p:cNvSpPr/>
          <p:nvPr/>
        </p:nvSpPr>
        <p:spPr>
          <a:xfrm>
            <a:off x="2257560" y="4648320"/>
            <a:ext cx="27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Ma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6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9"/>
          <p:cNvSpPr/>
          <p:nvPr/>
        </p:nvSpPr>
        <p:spPr>
          <a:xfrm>
            <a:off x="3276720" y="1295280"/>
            <a:ext cx="25905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12" descr="">
            <a:hlinkClick r:id="rId1"/>
          </p:cNvPr>
          <p:cNvPicPr/>
          <p:nvPr/>
        </p:nvPicPr>
        <p:blipFill>
          <a:blip r:embed="rId2"/>
          <a:srcRect l="24218" t="14831" r="23440" b="53920"/>
          <a:stretch/>
        </p:blipFill>
        <p:spPr>
          <a:xfrm>
            <a:off x="2743200" y="3352680"/>
            <a:ext cx="4038480" cy="193068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13"/>
          <p:cNvSpPr/>
          <p:nvPr/>
        </p:nvSpPr>
        <p:spPr>
          <a:xfrm>
            <a:off x="3124080" y="13716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5"/>
          <p:cNvSpPr/>
          <p:nvPr/>
        </p:nvSpPr>
        <p:spPr>
          <a:xfrm>
            <a:off x="2819520" y="573084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Technology for Teachers: PowerPoin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utorial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7" descr="">
            <a:hlinkClick r:id="rId4"/>
          </p:cNvPr>
          <p:cNvPicPr/>
          <p:nvPr/>
        </p:nvPicPr>
        <p:blipFill>
          <a:blip r:embed="rId5"/>
          <a:srcRect l="3906" t="16666" r="78910" b="75006"/>
          <a:stretch/>
        </p:blipFill>
        <p:spPr>
          <a:xfrm>
            <a:off x="1676520" y="2057400"/>
            <a:ext cx="2590560" cy="9428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8" descr="">
            <a:hlinkClick r:id="rId6"/>
          </p:cNvPr>
          <p:cNvPicPr/>
          <p:nvPr/>
        </p:nvPicPr>
        <p:blipFill>
          <a:blip r:embed="rId7"/>
          <a:srcRect l="2344" t="18753" r="78128" b="73963"/>
          <a:stretch/>
        </p:blipFill>
        <p:spPr>
          <a:xfrm>
            <a:off x="5334120" y="2209680"/>
            <a:ext cx="28191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8"/>
          <p:cNvSpPr/>
          <p:nvPr/>
        </p:nvSpPr>
        <p:spPr>
          <a:xfrm>
            <a:off x="3276720" y="1295280"/>
            <a:ext cx="25905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2"/>
          <p:cNvSpPr/>
          <p:nvPr/>
        </p:nvSpPr>
        <p:spPr>
          <a:xfrm>
            <a:off x="3124080" y="13716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4" descr="">
            <a:hlinkClick r:id="rId1"/>
          </p:cNvPr>
          <p:cNvPicPr/>
          <p:nvPr/>
        </p:nvPicPr>
        <p:blipFill>
          <a:blip r:embed="rId2"/>
          <a:srcRect l="63285" t="15629" r="20314" b="80287"/>
          <a:stretch/>
        </p:blipFill>
        <p:spPr>
          <a:xfrm>
            <a:off x="3733920" y="3276720"/>
            <a:ext cx="1600200" cy="3189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5" descr="">
            <a:hlinkClick r:id="rId3"/>
          </p:cNvPr>
          <p:cNvPicPr/>
          <p:nvPr/>
        </p:nvPicPr>
        <p:blipFill>
          <a:blip r:embed="rId4"/>
          <a:srcRect l="0" t="14831" r="71098" b="74431"/>
          <a:stretch/>
        </p:blipFill>
        <p:spPr>
          <a:xfrm>
            <a:off x="3200400" y="4572000"/>
            <a:ext cx="2819520" cy="838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7" descr="">
            <a:hlinkClick r:id="rId5"/>
          </p:cNvPr>
          <p:cNvPicPr/>
          <p:nvPr/>
        </p:nvPicPr>
        <p:blipFill>
          <a:blip r:embed="rId6"/>
          <a:srcRect l="0" t="24600" r="82816" b="68566"/>
          <a:stretch/>
        </p:blipFill>
        <p:spPr>
          <a:xfrm>
            <a:off x="3809880" y="5791320"/>
            <a:ext cx="1676520" cy="5331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9" descr=""/>
          <p:cNvPicPr/>
          <p:nvPr/>
        </p:nvPicPr>
        <p:blipFill>
          <a:blip r:embed="rId7"/>
          <a:srcRect l="11718" t="17761" r="72659" b="78335"/>
          <a:stretch/>
        </p:blipFill>
        <p:spPr>
          <a:xfrm>
            <a:off x="2743200" y="2255760"/>
            <a:ext cx="3581280" cy="71604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20"/>
          <p:cNvSpPr/>
          <p:nvPr/>
        </p:nvSpPr>
        <p:spPr>
          <a:xfrm>
            <a:off x="3429000" y="38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stal 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rcRect l="782" t="18555" r="82037" b="74616"/>
          <a:stretch/>
        </p:blipFill>
        <p:spPr>
          <a:xfrm>
            <a:off x="1752480" y="4343400"/>
            <a:ext cx="2286000" cy="72720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6"/>
          <p:cNvSpPr/>
          <p:nvPr/>
        </p:nvSpPr>
        <p:spPr>
          <a:xfrm>
            <a:off x="3505320" y="11430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3962520" y="1254240"/>
            <a:ext cx="297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8" descr=""/>
          <p:cNvPicPr/>
          <p:nvPr/>
        </p:nvPicPr>
        <p:blipFill>
          <a:blip r:embed="rId2"/>
          <a:srcRect l="1561" t="19533" r="78132" b="74616"/>
          <a:stretch/>
        </p:blipFill>
        <p:spPr>
          <a:xfrm>
            <a:off x="4495680" y="4114800"/>
            <a:ext cx="2514600" cy="581040"/>
          </a:xfrm>
          <a:prstGeom prst="rect">
            <a:avLst/>
          </a:prstGeom>
          <a:ln w="0">
            <a:noFill/>
          </a:ln>
        </p:spPr>
      </p:pic>
      <p:sp>
        <p:nvSpPr>
          <p:cNvPr id="528" name="Line 9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2"/>
          <p:cNvSpPr/>
          <p:nvPr/>
        </p:nvSpPr>
        <p:spPr>
          <a:xfrm>
            <a:off x="3505320" y="1143000"/>
            <a:ext cx="25905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3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4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15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7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8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9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0" descr=""/>
          <p:cNvPicPr/>
          <p:nvPr/>
        </p:nvPicPr>
        <p:blipFill>
          <a:blip r:embed="rId3"/>
          <a:srcRect l="70319" t="19533" r="20314" b="71681"/>
          <a:stretch/>
        </p:blipFill>
        <p:spPr>
          <a:xfrm>
            <a:off x="4114800" y="548640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21"/>
          <p:cNvSpPr/>
          <p:nvPr/>
        </p:nvSpPr>
        <p:spPr>
          <a:xfrm>
            <a:off x="5410080" y="5562720"/>
            <a:ext cx="198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deo, graphics, music &amp;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2" descr=""/>
          <p:cNvPicPr/>
          <p:nvPr/>
        </p:nvPicPr>
        <p:blipFill>
          <a:blip r:embed="rId4"/>
          <a:srcRect l="8594" t="16183" r="78910" b="79170"/>
          <a:stretch/>
        </p:blipFill>
        <p:spPr>
          <a:xfrm>
            <a:off x="6019920" y="2514600"/>
            <a:ext cx="2133360" cy="5954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4" descr=""/>
          <p:cNvPicPr/>
          <p:nvPr/>
        </p:nvPicPr>
        <p:blipFill>
          <a:blip r:embed="rId5"/>
          <a:srcRect l="1562" t="17709" r="78128" b="76045"/>
          <a:stretch/>
        </p:blipFill>
        <p:spPr>
          <a:xfrm>
            <a:off x="3124080" y="3276720"/>
            <a:ext cx="1981440" cy="4572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5" descr=""/>
          <p:cNvPicPr/>
          <p:nvPr/>
        </p:nvPicPr>
        <p:blipFill>
          <a:blip r:embed="rId6"/>
          <a:srcRect l="783" t="17709" r="77345" b="73963"/>
          <a:stretch/>
        </p:blipFill>
        <p:spPr>
          <a:xfrm>
            <a:off x="2057400" y="1905120"/>
            <a:ext cx="3200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8"/>
          <p:cNvSpPr/>
          <p:nvPr/>
        </p:nvSpPr>
        <p:spPr>
          <a:xfrm>
            <a:off x="3733920" y="1295280"/>
            <a:ext cx="1676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1676520" y="1676520"/>
            <a:ext cx="693396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leman, Sonia. "Templates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Home Pag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1 Jan 1998. 13 Jul 2007 &lt;http://www.soniacoleman.com/templates.htm&gt;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Free PowerPoint Backgrounds and PowerPoint Templates - Brainy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Free PowerPoint Backgrounds and PowerPoint Templates - Brain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1 Jan 1001. 13 Jul 2007 &lt;http://www.brainybetty.com/default.htm&gt;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dia, Act360. "PowerPoint in the Classroom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ctDEN (Digital Education Network): Software Tutorials and Online Cours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1 Jan 1001. 13 Jul 2007 &lt;http://www.actden.com/pp/guide.htm&gt;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rr, Linda. "Education World Technology Center: PowerPoint -- Creating Classroom Presentations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Education WorldThe Educator's Best Frien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20 Mar 2000. 13 Jul 2007 &lt;http://www.educationworld.com/a_tech/tech/tech013.shtml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crosoft Office Online. July 13, 2007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office.microsoft.com/en-us/templates/default.aspx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8"/>
          <p:cNvSpPr/>
          <p:nvPr/>
        </p:nvSpPr>
        <p:spPr>
          <a:xfrm>
            <a:off x="3733920" y="1295280"/>
            <a:ext cx="1676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1676520" y="1676520"/>
            <a:ext cx="6933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2"/>
          <p:cNvSpPr/>
          <p:nvPr/>
        </p:nvSpPr>
        <p:spPr>
          <a:xfrm>
            <a:off x="1371600" y="1523880"/>
            <a:ext cx="73152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Art.com - Posters, Art Prints, and Framed Art Leader.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Art.com - Posters, Art Prints, and Framed Art Leader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1 Jan 1995. 21 Jul 2007 &lt;http://www.art.com/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ooks, Susan, and Bill Byles. "On-Line Technology Practice Modules - PowerPoint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Internet4Classrooms - Helping Teachers Use the Internet Effectivel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21 Jul 2007 &lt;http://www.internet4classrooms.com/on-line_powerpoint.htm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rtzberger, Jeff. "Jeff Ertzberger Microsoft Office Games PowerPoint Games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UNCW Faculty and Staff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21 Jul 2007 &lt;http://people.uncw.edu/ertzbergerj/msgames.htm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m, Janine, and Dennis Lundgren. "Technology Curriculum Integration Ideas!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Berrien County Intermediate School Distric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24 Oct 2003. 21 Jul 2007 &lt;http://www.remc11.k12.mi.us/bcisd/classres/intideas.htm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rickel, Mark. "ED596 - PowerPoint Tutorial: Home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ome page for Oregon State Universit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1 Jan 1996. 21 Jul 2007 &lt;http://oregonstate.edu/instruction/ed596/ppoint/pphome.htm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Microsoft PowerPoint - Wikipedia, the free encyclopedia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Main Page - Wikipedia, the free encyclopedi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21 Jul 2007 &lt;http://en.wikipedia.org/wiki/Microsoft_PowerPoint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Naturesongs Digital Nature Recordings and Photos!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Naturesongs Digital Nature Recordings and Photos!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Jul 2007 &lt;http://www.naturesongs.com/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reated at www.bibme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8"/>
          <p:cNvSpPr/>
          <p:nvPr/>
        </p:nvSpPr>
        <p:spPr>
          <a:xfrm>
            <a:off x="3733920" y="1295280"/>
            <a:ext cx="1676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1"/>
          <p:cNvSpPr/>
          <p:nvPr/>
        </p:nvSpPr>
        <p:spPr>
          <a:xfrm>
            <a:off x="1676520" y="167652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2"/>
          <p:cNvSpPr/>
          <p:nvPr/>
        </p:nvSpPr>
        <p:spPr>
          <a:xfrm>
            <a:off x="1371600" y="1600200"/>
            <a:ext cx="7315200" cy="53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Welcome to DKImages.com."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elcome to DKImages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21 Jul 2007 &lt;http://www.dkimages.com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azel, Midge. "PowerPoint Resources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Midge Frazel's Home Pag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12 Jul 0007. 21 Jul 2007 &lt;http://www.midgefrazel.net/powerpoint.html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OCSD: Curriculum Collection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Oswego City School District - Oswego, New York 13126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1 Jan 2000. 21 Jul 2007 &lt;http://oswego.org/ocsd-web/teaching/resources/resources-x.cfm?Type=P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PowerPoint Resources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Rapides Parish School Distric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1 Jan 1001. 21 Jul 2007 &lt;http://www.rapides.k12.la.us/VI/PowerPointresources.htm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powerpoint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CCIU Instructional Technolog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14 Nov 2005. 21 Jul 2007 &lt;http://techintegration.cciu.org/PowerPoint/&gt;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nes, Diane, Mungai, Diane, wong, Lorna,  “Parade of Games in PowerPoint.”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 Jul 2007 http://facstaff.uww.edu/jonesd/games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BibMe - the fully automatic &amp; free bibliography maker (MLA, APA &amp; Chicago)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BibMe - the fully automatic &amp; free bibliography maker (MLA, APA &amp; Chicago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1 Jan 2007. 21 Jul 2007 &lt;http://www.bibme.org/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rlick, David. "Son of Citation Machine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on of Citation Machin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1 Jan 2004. 21 Jul 2007 &lt;http://citationmachine.net/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8"/>
          <p:cNvSpPr/>
          <p:nvPr/>
        </p:nvSpPr>
        <p:spPr>
          <a:xfrm>
            <a:off x="3733920" y="1295280"/>
            <a:ext cx="1676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1"/>
          <p:cNvSpPr/>
          <p:nvPr/>
        </p:nvSpPr>
        <p:spPr>
          <a:xfrm>
            <a:off x="1676520" y="167652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2"/>
          <p:cNvSpPr/>
          <p:nvPr/>
        </p:nvSpPr>
        <p:spPr>
          <a:xfrm>
            <a:off x="1371600" y="1447920"/>
            <a:ext cx="73152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eman, Sonia. "Templates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ome Pag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 1 Jan 1998. 21 Jul 2007 &lt;http://www.soniacoleman.com/templates.htm&gt;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"Free PowerPoint Backgrounds and PowerPoint Templates - Brainy Betty Official Site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ree PowerPoint Backgrounds and PowerPoint Templates - Brainy Betty Official S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 1 Jan 2004. 21 Jul 2007 &lt;http://www.brainybetty.com/default.htm&gt;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"Free Resources for Students and Educators - Free PowerPoint Templates, Special Education Discounts and More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Web Site Estates - Free PowerPoint Templates, Ebusiness News and Tutorials for Marketing and Communications Manag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 1 Jan 2004. 21 Jul 2007 &lt;http://websiteestates.com/free_education_powerpoint_templates.php&gt;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lland, G. "Embassy Quest...PowerPoint Rubric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MS Homepag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 1 Nov 2000. 21 Jul 2007 &lt;http://dms.wcs.k12.va.us/pprubric.htm&gt;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llins, Debbie. "Rubric Evaluation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echTrek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13 Nov 2001. 21 Jul 2007 &lt;http://www.techtrekers.com/rubrics.html&gt;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"Using PowerPoint to Play Educational Games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University of Minnesota, Twin Cit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 9 Jan 2006. 21 Jul 2007 &lt;http://www1.umn.edu/ohr/teachlearn/tutorials/powerpoint/games.html&gt;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ndervelde, Joan. "PowerPoint Rubric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University of Wisconsin-Stout, Wisconsin's Polytechnic Universit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26 Jun 2007. 21 Jul 2007 &lt;http://www.uwstout.edu/soe/profdev/pptrubric.html&gt;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za, Joyce. "PowerPoint Reform: a first chapter - NeverEndingSearch - Blog on School Library Journal."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hool Library Journal - Books, Multimedia, &amp; Technology-Children &amp; Tee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20 Jan. 2008. 9 July 2008 &lt;http://www.schoollibraryjournal.com/blog/1340000334/post/130020413.html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d at www.bibme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2895480" y="1295280"/>
            <a:ext cx="33530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35053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048120" y="1371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beginn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3505320" y="3962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11"/>
          <p:cNvSpPr/>
          <p:nvPr/>
        </p:nvSpPr>
        <p:spPr>
          <a:xfrm>
            <a:off x="1676520" y="167652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15" descr=""/>
          <p:cNvPicPr/>
          <p:nvPr/>
        </p:nvPicPr>
        <p:blipFill>
          <a:blip r:embed="rId1"/>
          <a:srcRect l="6252" t="12694" r="7005" b="9178"/>
          <a:stretch/>
        </p:blipFill>
        <p:spPr>
          <a:xfrm>
            <a:off x="228600" y="304920"/>
            <a:ext cx="8763120" cy="6311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87" name="Text Box 16"/>
          <p:cNvSpPr/>
          <p:nvPr/>
        </p:nvSpPr>
        <p:spPr>
          <a:xfrm>
            <a:off x="8153280" y="6129360"/>
            <a:ext cx="762120" cy="368280"/>
          </a:xfrm>
          <a:prstGeom prst="rect">
            <a:avLst/>
          </a:prstGeom>
          <a:solidFill>
            <a:srgbClr val="0066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3733920" y="1295280"/>
            <a:ext cx="1676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752480" y="39625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1 – 1987 Pres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2133720" y="22384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ypewriter pages were enlarged, and copied on to transparenci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dious, slow, expensive, poor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ly one font - Courier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1600200" y="1828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 Presentations – prior to 19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2438280" y="4476600"/>
            <a:ext cx="3505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ack and whit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cinto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nerated pages for transpar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3733920" y="1295280"/>
            <a:ext cx="1676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1828800" y="41911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3 –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2362320" y="2238480"/>
            <a:ext cx="6476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 presentation product for Window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 troub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lle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p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1752480" y="16765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2 -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2362320" y="4724280"/>
            <a:ext cx="35049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Mac and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Type Fo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nsition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nd and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5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3733920" y="1295280"/>
            <a:ext cx="1676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886200" y="52578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owerPoint 7.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y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600200" y="16765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owerPoint 4.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ebruary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7" descr="ppt4_box"/>
          <p:cNvPicPr/>
          <p:nvPr/>
        </p:nvPicPr>
        <p:blipFill>
          <a:blip r:embed="rId1"/>
          <a:stretch/>
        </p:blipFill>
        <p:spPr>
          <a:xfrm>
            <a:off x="1752480" y="2666880"/>
            <a:ext cx="1906560" cy="23670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135" name="Picture 18" descr="ppt95_box"/>
          <p:cNvPicPr/>
          <p:nvPr/>
        </p:nvPicPr>
        <p:blipFill>
          <a:blip r:embed="rId2"/>
          <a:stretch/>
        </p:blipFill>
        <p:spPr>
          <a:xfrm>
            <a:off x="4114800" y="2666880"/>
            <a:ext cx="1897200" cy="23432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136" name="Picture 19" descr="ppt97_box"/>
          <p:cNvPicPr/>
          <p:nvPr/>
        </p:nvPicPr>
        <p:blipFill>
          <a:blip r:embed="rId3"/>
          <a:stretch/>
        </p:blipFill>
        <p:spPr>
          <a:xfrm>
            <a:off x="6553080" y="2666880"/>
            <a:ext cx="1909800" cy="23432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137" name="Text Box 20"/>
          <p:cNvSpPr/>
          <p:nvPr/>
        </p:nvSpPr>
        <p:spPr>
          <a:xfrm>
            <a:off x="6553080" y="18288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owerPoint9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3733920" y="1295280"/>
            <a:ext cx="1676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396252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owerPoint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676520" y="1676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owerPoint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6553080" y="18288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owerPoint 2007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off2000_cd"/>
          <p:cNvPicPr/>
          <p:nvPr/>
        </p:nvPicPr>
        <p:blipFill>
          <a:blip r:embed="rId1"/>
          <a:stretch/>
        </p:blipFill>
        <p:spPr>
          <a:xfrm>
            <a:off x="1828800" y="2514600"/>
            <a:ext cx="2209680" cy="220968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151" name="Picture 18" descr="OfficeProfessional2003BoxShot"/>
          <p:cNvPicPr/>
          <p:nvPr/>
        </p:nvPicPr>
        <p:blipFill>
          <a:blip r:embed="rId2"/>
          <a:stretch/>
        </p:blipFill>
        <p:spPr>
          <a:xfrm>
            <a:off x="4038480" y="2438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9" descr="pp 2007"/>
          <p:cNvPicPr/>
          <p:nvPr/>
        </p:nvPicPr>
        <p:blipFill>
          <a:blip r:embed="rId3"/>
          <a:stretch/>
        </p:blipFill>
        <p:spPr>
          <a:xfrm>
            <a:off x="6629400" y="2438280"/>
            <a:ext cx="21528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3733920" y="1295280"/>
            <a:ext cx="1676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3048120" y="4572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esentation 2008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8" descr=""/>
          <p:cNvPicPr/>
          <p:nvPr/>
        </p:nvPicPr>
        <p:blipFill>
          <a:blip r:embed="rId1"/>
          <a:srcRect l="0" t="19791" r="84377" b="71881"/>
          <a:stretch/>
        </p:blipFill>
        <p:spPr>
          <a:xfrm>
            <a:off x="2743200" y="2560680"/>
            <a:ext cx="3962520" cy="158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10:35:52Z</dcterms:created>
  <dc:creator>Lakeview</dc:creator>
  <dc:description/>
  <dc:language>en-US</dc:language>
  <cp:lastModifiedBy>Connie White</cp:lastModifiedBy>
  <dcterms:modified xsi:type="dcterms:W3CDTF">2008-07-23T00:41:20Z</dcterms:modified>
  <cp:revision>241</cp:revision>
  <dc:subject/>
  <dc:title>PowerPoint</dc:title>
</cp:coreProperties>
</file>